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E22-9627-4488-BABC-65AA13DD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6C1-E6AB-40F3-AB28-CB288B96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30F-E506-4876-ABD2-EEB8B76A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52F-1745-4ED5-A936-42B7F853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3A3-0F98-47A0-A7D9-F2930880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695-35D7-41CA-BB7B-BD195F22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72F-E248-47CC-9D39-C6C36A90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B31-F4B3-495B-A444-D7F1D778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5BC-C3E7-47E5-9147-2927C510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0EC-2FD8-4ADB-89EE-EE236CE0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32D-4066-4E26-9FCB-24422D9D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D80-A4FD-4903-9363-8765A041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4F0E-083B-4F26-BE18-F8739FC10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hyperlink" Target="file:///Udine%2028-02junior.ppt" TargetMode="External"/><Relationship Id="rId5" Type="http://schemas.openxmlformats.org/officeDocument/2006/relationships/image" Target="../media/image3.jpeg"/><Relationship Id="rId6" Type="http://schemas.openxmlformats.org/officeDocument/2006/relationships/hyperlink" Target="file:///Le%20funzioni%20del%20tutor%20on%20line.ppt" TargetMode="External"/><Relationship Id="rId7" Type="http://schemas.openxmlformats.org/officeDocument/2006/relationships/hyperlink" Target="file:///Le%20funzioni%20del%20tutor%20on%20line.ppt" TargetMode="External"/><Relationship Id="rId8" Type="http://schemas.openxmlformats.org/officeDocument/2006/relationships/hyperlink" Target="file:///Le%20funzioni%20del%20tutor%20on%20line.ppt" TargetMode="External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2060640"/>
            <a:ext cx="7848720" cy="2311560"/>
          </a:xfrm>
          <a:prstGeom prst="rect">
            <a:avLst/>
          </a:prstGeom>
          <a:gradFill rotWithShape="0">
            <a:gsLst>
              <a:gs pos="0">
                <a:srgbClr val="646666"/>
              </a:gs>
              <a:gs pos="100000">
                <a:srgbClr val="dbdfd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FORMAZIONE REGIONA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E-TU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Udine 28 febbraio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5516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5f5f5f"/>
                </a:solidFill>
                <a:latin typeface="Arial"/>
              </a:rPr>
              <a:t>Presentazione del gruppo di lavoro: Beuzer Antonio, Cino Anna Maria, Ferraro Giuseppe, Gallici Paolo, Massaro Giuliana, Piccolo Anton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424720" cy="4313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260280"/>
            <a:ext cx="5976720" cy="459720"/>
          </a:xfrm>
          <a:prstGeom prst="rect">
            <a:avLst/>
          </a:prstGeom>
          <a:gradFill rotWithShape="0">
            <a:gsLst>
              <a:gs pos="0">
                <a:srgbClr val="646666"/>
              </a:gs>
              <a:gs pos="100000">
                <a:srgbClr val="dbdfd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MAPPA GEN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260280"/>
            <a:ext cx="5976720" cy="459720"/>
          </a:xfrm>
          <a:prstGeom prst="rect">
            <a:avLst/>
          </a:prstGeom>
          <a:gradFill rotWithShape="0">
            <a:gsLst>
              <a:gs pos="0">
                <a:srgbClr val="646666"/>
              </a:gs>
              <a:gs pos="100000">
                <a:srgbClr val="dbdfd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COMUNICAZIONI  DEL GRUP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126828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1052640"/>
            <a:ext cx="60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1484280"/>
            <a:ext cx="56167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entazione a cura del gruppo di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UNTOEDU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unità d’apprendimento a cura di Massaro Giul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Le funzioni del 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tutor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on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ne a cura di Cino Anna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utor facilitatore a cura di Piccolo Anton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cazioni metodologiche per la conduzione dei gruppi di lavoro a cura di Ferraro Gius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tto formativo a cura di Cino Anna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boratorio sincrono a cura di Piccolo Anton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potesi organizzativa di un corso a cura del gruppo di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14:34:26Z</dcterms:created>
  <dc:creator>Massaro Giuliana</dc:creator>
  <dc:description/>
  <dc:language>en-US</dc:language>
  <cp:lastModifiedBy>Massaro Giuliana</cp:lastModifiedBy>
  <dcterms:modified xsi:type="dcterms:W3CDTF">2005-02-27T15:14:34Z</dcterms:modified>
  <cp:revision>3</cp:revision>
  <dc:subject/>
  <dc:title>Diapositiva 1</dc:title>
</cp:coreProperties>
</file>